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92B-6893-4F94-989B-79449AFE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477-3BBC-44DF-943D-2F3D2258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1C6-B2E8-4B71-BD36-5D556FB6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E7C-D080-4FA9-80F3-4A05877A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A74-DBE9-4A41-B041-4B8A2778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EF5-4BAF-42CD-8D4F-863AC823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6A6-D479-41D4-8600-1E8B4785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2C0-7095-4113-9E9E-239496A2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521-2103-4EC9-AD31-AA2A4ACA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448-3035-4F66-AE10-9B0007BE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551-F56E-4D05-B1D0-9C0C7F76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17E-26DB-41C5-93D9-30980572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8186-FC8D-4F49-8A5F-D061EF3E5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3562200"/>
            <a:ext cx="5688000" cy="2917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243320" cy="300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35960" y="981000"/>
            <a:ext cx="2131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ベスビオ火山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ローマ時代の人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ポンペイの遺跡か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火山地帯と遺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HG丸ｺﾞｼｯｸM-PRO"/>
              </a:rPr>
              <a:t>火山の利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①天然の貯水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・火山灰土壌は雨水を吸収しやす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・溶岩の割れ目も水の通り道，裾野の地表に湧き水となっ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　豊富な水をもたら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②土壌を豊かに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・火山灰土壌は有機物が豊富で非常に肥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4292640"/>
            <a:ext cx="3481560" cy="2133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127480" y="5000760"/>
            <a:ext cx="3621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噴火の歴史を知らずに，火山の山麓ま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農地や街が入り込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8000" y="476280"/>
            <a:ext cx="48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鹿児島県国分市の上野原遺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645000" cy="2684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47640" y="2492280"/>
            <a:ext cx="2881440" cy="2094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23640" y="1773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本最古の定住集落遺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771640" y="4724280"/>
            <a:ext cx="250992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724360" y="4437000"/>
            <a:ext cx="27352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5759640" cy="3954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24360" y="4869000"/>
            <a:ext cx="213048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994200" cy="5667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549360"/>
            <a:ext cx="4176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前年以降，針葉樹に代わりコナラなど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落葉広葉樹の森が誕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前以降には，シイやカシなどの常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照葉樹も交じり，種類の豊富な森が形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多種多様な木の実をもたらし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　　　　　　　　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森の恵みを生かし，安定した定住生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35360" y="3573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ところが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24560" y="4292640"/>
            <a:ext cx="249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上野原遺跡の遺跡よりも少しの層準にあ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鬼界アカホヤテフラを境に，土器など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タイプが変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8080" y="5445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大噴火の打撃を受けたため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3280" y="620640"/>
            <a:ext cx="3459240" cy="540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97000" y="549360"/>
            <a:ext cx="234144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11280" y="3209760"/>
            <a:ext cx="3309840" cy="3125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865840" y="60213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九州南部のカルデラ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03280" y="3213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鬼界カルデラが沈んでいる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竹島の西端より南方を望む。右手奥に見えるのは，活火山の硫黄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6040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780000" y="2060640"/>
            <a:ext cx="5113080" cy="3125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33224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6300720" cy="1804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2085840" cy="295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547640" y="3716280"/>
            <a:ext cx="4981680" cy="2852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59640" y="3500280"/>
            <a:ext cx="2074680" cy="299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0" y="2637000"/>
            <a:ext cx="5004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　霧島火山周辺の鬼界アカホヤテフ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鬼界アカホヤテフラの噴火と同じ頃，霧島火山でも噴火が継続中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アカホヤテフラをすぐに覆ってしまったため，走向が熱いまま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6653160" cy="2968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265284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4281480" cy="2530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3083040" cy="4752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40400" y="4869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屋久島に見られる噴砂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573408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軽石層から噴礫として堆積物を突き破って立ち上がる軽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620640"/>
            <a:ext cx="345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鬼界アカホヤテフラ噴出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噴火による地震の痕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3992400" cy="4343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92904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34920" y="3213000"/>
            <a:ext cx="2521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竹島</a:t>
            </a:r>
            <a:br>
              <a:rPr sz="14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島の西端より東を望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2720" y="6165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大名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61657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ガジュマルの巨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572440" cy="2544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132000" cy="2275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7280" y="3860640"/>
            <a:ext cx="33624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渤海国の興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473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59640" cy="2903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3487680" cy="3506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2908440" cy="300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532320" y="6093000"/>
            <a:ext cx="94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白頭山苫小牧火山灰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等層厚線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4380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681440" cy="283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78280" y="1773360"/>
            <a:ext cx="4365720" cy="260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4449600" cy="2886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148360" y="4869000"/>
            <a:ext cx="363528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01040" y="1125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ポンペイ市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89124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4002120" cy="434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39520" y="692280"/>
            <a:ext cx="2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通りは車道と歩道に分かれていて，車道には横断歩道が設けられてい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5320" y="566100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車道の石畳に残る馬車の轍の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2040" y="5661000"/>
            <a:ext cx="1990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公共水道の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通りには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0m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おきごとに水くみ場が設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966840" cy="559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4348080" cy="465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8200" y="63086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玄関のモザイ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06920" y="63086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浴室のモザイ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330440" cy="470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979800" cy="306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60160" y="5157720"/>
            <a:ext cx="1582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住宅の壁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「ポンペイアン・レッド」とよ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鮮やかな赤がそのまま残って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294000" cy="3552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780000" y="1197000"/>
            <a:ext cx="4933800" cy="4037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004520" y="620640"/>
            <a:ext cx="88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オリーブオイル・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ス。タマネギ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ス。鍋・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ス…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40760" y="5373720"/>
            <a:ext cx="33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上：「冷たい水を少しくれ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5843520"/>
            <a:ext cx="147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下：家々の玄関の壁には，隣近所へ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お知らせや恋人同士のやりとりの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がある。「わたしがあなたと一緒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踊ったことを覚えていて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87880" y="620640"/>
            <a:ext cx="140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快楽におぼれていった人々の様子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物語る落書き。「とことん飲むぞ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71240" y="5338800"/>
            <a:ext cx="17031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栄光の陰で人々の心がすさみはじめ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いたことを示す落書き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上：「おまえに災いあれ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下：「おまえは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回破産した。だ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　　　破産してもおかしくなかった。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62240" y="1197000"/>
            <a:ext cx="109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ユリウス・ポリュビウスを「二人委員」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推薦することを記した看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9600" y="5445000"/>
            <a:ext cx="13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選挙の立候補者に対する推薦看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4936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町のあちこちに残っている落書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南九州の縄文文化の変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7:04:21Z</dcterms:created>
  <dc:creator>Junko Fujii</dc:creator>
  <dc:description/>
  <dc:language>en-US</dc:language>
  <cp:lastModifiedBy>Junko Fujii</cp:lastModifiedBy>
  <dcterms:modified xsi:type="dcterms:W3CDTF">2005-06-30T08:48:47Z</dcterms:modified>
  <cp:revision>8</cp:revision>
  <dc:subject/>
  <dc:title>スライド 1</dc:title>
</cp:coreProperties>
</file>