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DAE5-C694-4295-9892-AACE789B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BDA-D9A7-476B-8214-B6A06E24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590-EB3D-41DA-AB37-A6D56603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240-0601-44F2-A6B6-1A17DA98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463-2731-4F83-AA70-66FA1023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B884-E5DC-44AE-ADE3-4865CDCA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FA3-46FD-43F7-B844-1946EDA9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93A9-D5EA-4615-A31C-1767F418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77CD-9A10-481D-83E4-FAAD6B4D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C30F-C126-4ED5-AD9B-F36E435C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F49-E735-42FE-AD1E-2936264B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B88F-0F8F-4BAA-B69F-90F3CA40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E618-F415-4667-A4AD-BD78F7C7C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01720" y="5493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テフラ堆積時の定置温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1998720"/>
            <a:ext cx="48960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14680" y="1371600"/>
            <a:ext cx="5715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14680" y="833400"/>
            <a:ext cx="57150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09960" y="40464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段階熱消磁実験から何がわかる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35840" y="155736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42240" y="1473120"/>
            <a:ext cx="139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600℃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の熱消磁ま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方向が変わらず，安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8036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77360" y="2625840"/>
            <a:ext cx="17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置温度は</a:t>
            </a: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600℃</a:t>
            </a:r>
            <a:r>
              <a:rPr b="0" lang="zh-CN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以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429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60600" y="4280040"/>
            <a:ext cx="171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50℃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の熱消磁までは安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00℃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以上の熱消磁で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不安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67400" y="220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63400" y="5673600"/>
            <a:ext cx="144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置温度は</a:t>
            </a: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50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458640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14680" y="833400"/>
            <a:ext cx="544968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14680" y="1190520"/>
            <a:ext cx="571500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14680" y="1190520"/>
            <a:ext cx="571500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14680" y="833400"/>
            <a:ext cx="57150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14680" y="828720"/>
            <a:ext cx="57150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14680" y="828720"/>
            <a:ext cx="57150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14680" y="828720"/>
            <a:ext cx="57150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97672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14680" y="1185840"/>
            <a:ext cx="5715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14680" y="1185840"/>
            <a:ext cx="5715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14680" y="1185840"/>
            <a:ext cx="5715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58920" y="941400"/>
            <a:ext cx="71294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52640" y="947880"/>
            <a:ext cx="523872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52640" y="947880"/>
            <a:ext cx="523872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87280" y="887400"/>
            <a:ext cx="71298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52640" y="852480"/>
            <a:ext cx="52387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52640" y="852480"/>
            <a:ext cx="52387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80320" y="6165720"/>
            <a:ext cx="12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阿蘇</a:t>
            </a: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火山灰の分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71800" y="620640"/>
            <a:ext cx="50004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2456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291960"/>
            <a:ext cx="8353440" cy="62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47640" y="487440"/>
            <a:ext cx="640908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033800" y="623736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阿蘇</a:t>
            </a: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テフラの試料採取地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61672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64000" y="6021360"/>
            <a:ext cx="21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山口県における阿蘇</a:t>
            </a: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テフラの採取地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9640" y="817560"/>
            <a:ext cx="52563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35280" y="1371600"/>
            <a:ext cx="559440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6720" y="4869000"/>
            <a:ext cx="282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阿蘇</a:t>
            </a: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テフラのサブユニッ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72010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29160" y="5734080"/>
            <a:ext cx="231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火砕流堆積物のサブユニットと降下火山灰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平均磁化方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7150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038120" y="6093000"/>
            <a:ext cx="16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阿蘇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テフラの帯磁率と磁化強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76360" y="979560"/>
            <a:ext cx="619128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01:37:00Z</dcterms:created>
  <dc:creator>Junko Fujii</dc:creator>
  <dc:description/>
  <dc:language>en-US</dc:language>
  <cp:lastModifiedBy>中島てみ子</cp:lastModifiedBy>
  <dcterms:modified xsi:type="dcterms:W3CDTF">2010-10-10T11:39:43Z</dcterms:modified>
  <cp:revision>19</cp:revision>
  <dc:subject/>
  <dc:title>スライド 1</dc:title>
</cp:coreProperties>
</file>