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3CE-6040-4232-81A2-A2CC7026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817-B9E3-4E0C-ACB0-01662330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394-275A-45ED-99DC-98B82059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DE4-384C-4C15-9EC2-B67642C2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65C-0B7D-44F4-A9B8-6EAF2EC0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BEF-0DC2-436A-A8FD-BDDC1CE5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231-2134-461D-A73B-349BA29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0D1-FCAF-4327-B2B0-6DC41257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B2A-A7DE-4D9C-967B-93CC3690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6EE0-55AE-493D-B94D-04A08EB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D5E-2B2A-479B-BB35-0652342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ADD-8DFC-4F4D-87A3-1A5D849D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943C-1091-42B8-9B7F-1F9D167EF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01720" y="549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テフラ堆積時の定置温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998720"/>
            <a:ext cx="48960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14680" y="137160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14680" y="833400"/>
            <a:ext cx="5715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9960" y="40464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段階熱消磁実験から何がわかる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35840" y="155736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42240" y="1473120"/>
            <a:ext cx="139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600℃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熱消磁ま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方向が変わらず，安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77360" y="2625840"/>
            <a:ext cx="17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置温度は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600℃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以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429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60600" y="4280040"/>
            <a:ext cx="171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50℃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熱消磁までは安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00℃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以上の熱消磁で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不安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67400" y="220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63400" y="5673600"/>
            <a:ext cx="14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置温度は</a:t>
            </a: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50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45864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14680" y="833400"/>
            <a:ext cx="54496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14680" y="1190520"/>
            <a:ext cx="57150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14680" y="1190520"/>
            <a:ext cx="57150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14680" y="833400"/>
            <a:ext cx="5715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14680" y="828720"/>
            <a:ext cx="57150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14680" y="828720"/>
            <a:ext cx="57150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14680" y="828720"/>
            <a:ext cx="57150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9767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14680" y="118584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14680" y="118584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14680" y="118584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941400"/>
            <a:ext cx="71294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52640" y="947880"/>
            <a:ext cx="52387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52640" y="947880"/>
            <a:ext cx="52387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7280" y="887400"/>
            <a:ext cx="71298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52640" y="852480"/>
            <a:ext cx="5238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52640" y="852480"/>
            <a:ext cx="5238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80320" y="6165720"/>
            <a:ext cx="12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阿蘇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火山灰の分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71800" y="620640"/>
            <a:ext cx="5000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2456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291960"/>
            <a:ext cx="835344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47640" y="487440"/>
            <a:ext cx="640908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3800" y="62373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阿蘇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フラの試料採取地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6167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64000" y="6021360"/>
            <a:ext cx="21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山口県における阿蘇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フラの採取地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817560"/>
            <a:ext cx="5256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1371600"/>
            <a:ext cx="559440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6720" y="4869000"/>
            <a:ext cx="282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阿蘇</a:t>
            </a: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フラのサブユニッ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201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29160" y="5734080"/>
            <a:ext cx="231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火砕流堆積物のサブユニットと降下火山灰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平均磁化方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715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38120" y="6093000"/>
            <a:ext cx="16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阿蘇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フラの帯磁率と磁化強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979560"/>
            <a:ext cx="61912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1:37:00Z</dcterms:created>
  <dc:creator>Junko Fujii</dc:creator>
  <dc:description/>
  <dc:language>en-US</dc:language>
  <cp:lastModifiedBy>中島てみ子</cp:lastModifiedBy>
  <dcterms:modified xsi:type="dcterms:W3CDTF">2010-10-10T11:39:43Z</dcterms:modified>
  <cp:revision>19</cp:revision>
  <dc:subject/>
  <dc:title>スライド 1</dc:title>
</cp:coreProperties>
</file>