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CAFB-09BA-4BDC-B537-B07864F43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7540-DBDB-4E39-9DF7-E96060785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8CA5-A0C0-4534-8F0B-CBE283809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32A5-599D-4CB9-859A-3F7A08D10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3878-85A8-4450-88BA-364AA8478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95BF-E149-4F82-9E3C-F75A6F169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B855-C129-43FF-BBA8-FA34D0F05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796D-B53C-4B97-B878-B653DB125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BC61-532F-4C28-B47F-DD9E1FBA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DC45-6923-45C0-804A-A31E20E0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26CE-58AE-4C46-942C-89896CE9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802B-F011-4C1A-A1BB-9159940D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9A964-3863-4F72-B228-77772F282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s-yamaga.jp/self/self.htm" TargetMode="External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hyperlink" Target="http://www.s-yamaga.jp/self/self.htm" TargetMode="External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03280" y="836280"/>
            <a:ext cx="634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地磁気のはな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7961040" cy="53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7961040" cy="53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4280" y="1268280"/>
            <a:ext cx="4448520" cy="45752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570560" y="1844640"/>
            <a:ext cx="4573440" cy="37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3047760" cy="3313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39640" y="4869000"/>
            <a:ext cx="2592360" cy="11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伊能忠敬の日本地図のゆが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から推定された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1800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年頃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地磁気偏角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419640" y="1484280"/>
            <a:ext cx="2676240" cy="3168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043520" y="4941720"/>
            <a:ext cx="1472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1970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年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の地磁気偏角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（国土地理院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80240" y="4941720"/>
            <a:ext cx="1472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2000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年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の地磁気偏角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（国土地理院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6156360" y="1341360"/>
            <a:ext cx="2689200" cy="31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835280" y="765000"/>
            <a:ext cx="5472000" cy="47167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50920" y="4581360"/>
            <a:ext cx="1579320" cy="18288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065040" y="5661000"/>
            <a:ext cx="304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西南日本における過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200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年間の永年変化曲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00720" y="1197000"/>
            <a:ext cx="394308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118120" y="404640"/>
            <a:ext cx="4025880" cy="60804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95280" y="765000"/>
            <a:ext cx="5381640" cy="560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835280" y="512640"/>
            <a:ext cx="534960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95280" y="5949720"/>
            <a:ext cx="561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日本列島の折れ曲がり（日本海の誕生）</a:t>
            </a:r>
            <a:br>
              <a:rPr sz="1800"/>
            </a:b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HG丸ｺﾞｼｯｸM-PRO"/>
                <a:hlinkClick r:id="rId1"/>
              </a:rPr>
              <a:t>http://www.s-yamaga.jp/self/self.htm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Arial"/>
                <a:ea typeface="HG丸ｺﾞｼｯｸM-PRO"/>
              </a:rPr>
              <a:t>よ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332000" y="765000"/>
            <a:ext cx="6769080" cy="50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26560" y="2565000"/>
            <a:ext cx="2953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2500</a:t>
            </a: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万年前の日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187280" y="260280"/>
            <a:ext cx="2449800" cy="2352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788000" y="333360"/>
            <a:ext cx="2346120" cy="2040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116000" y="3284640"/>
            <a:ext cx="2592360" cy="24019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4859280" y="3284640"/>
            <a:ext cx="2505240" cy="2274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348880" y="2565360"/>
            <a:ext cx="93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2200</a:t>
            </a: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万年前、アジア大陸から分裂し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日本海ができ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26920" y="5734080"/>
            <a:ext cx="338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1500</a:t>
            </a: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万年前，東北日本は反時計回り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西日本は時計回りに回転しながら南下する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26400" y="5734080"/>
            <a:ext cx="195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1400</a:t>
            </a: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万年前，ほとんど現在の日本列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の位置になる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08720" y="6453360"/>
            <a:ext cx="33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9999"/>
                </a:solidFill>
                <a:uFillTx/>
                <a:latin typeface="Arial"/>
                <a:ea typeface="HG丸ｺﾞｼｯｸM-PRO"/>
                <a:hlinkClick r:id="rId5"/>
              </a:rPr>
              <a:t>http://www.s-yamaga.jp/self/self.htm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よ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459640" y="772560"/>
            <a:ext cx="238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866448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60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12000" y="5516280"/>
            <a:ext cx="2566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1975</a:t>
            </a:r>
            <a:r>
              <a:rPr b="0" lang="zh-CN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年の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世界の偏角・伏角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87280" y="284040"/>
            <a:ext cx="5151600" cy="657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4360" y="2349360"/>
            <a:ext cx="2520720" cy="3168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635280" y="981000"/>
            <a:ext cx="2820960" cy="3170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408720" y="1268280"/>
            <a:ext cx="2735280" cy="2703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71640" y="5661000"/>
            <a:ext cx="1892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ウィリアム・ギルバー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1544-1603</a:t>
            </a: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81520" y="836640"/>
            <a:ext cx="2100960" cy="12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「地球は巨大な磁石である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赤道では旧の表面に平行，極に近づく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つれて傾きが大きくなる。小磁石の向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方向は南北極を結んだ線に平行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5733720"/>
            <a:ext cx="3178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棒磁石の周りの磁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3179520" cy="29545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564000" y="907920"/>
            <a:ext cx="5298840" cy="4714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292720" y="5805360"/>
            <a:ext cx="201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地球の周りの磁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6567480" cy="45766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860440" y="1746360"/>
            <a:ext cx="208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地理的北極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自転軸と地表の交わるとこ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74720" y="1268280"/>
            <a:ext cx="324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地磁気北極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：地球の仮想時期双極子の軸が地表と交わるとこ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42480" y="2708280"/>
            <a:ext cx="200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北磁極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：伏角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9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゜になるとこ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482960" y="511812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南磁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621400" y="60530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地磁気南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37880" y="55897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地理的南極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16000" y="549360"/>
            <a:ext cx="7216920" cy="60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7961040" cy="53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05:45:25Z</dcterms:created>
  <dc:creator>Junko Fujii</dc:creator>
  <dc:description/>
  <dc:language>en-US</dc:language>
  <cp:lastModifiedBy>Junko Fujii</cp:lastModifiedBy>
  <dcterms:modified xsi:type="dcterms:W3CDTF">2005-07-01T01:07:11Z</dcterms:modified>
  <cp:revision>16</cp:revision>
  <dc:subject/>
  <dc:title>スライド 1</dc:title>
</cp:coreProperties>
</file>