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D4BC-3AD5-47C2-948E-07A26631E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A7FF-7CAE-42EC-9DA8-378FCEDB6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A118-DC94-46A8-B34F-A6E1B4ED7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8C31-049B-4F26-822E-C0206C49F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EC95-B61C-4C77-853B-50C8A897E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F64C-ABD2-424D-8770-97C65E547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581F-0D25-498D-AA3F-B09FD8F38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7345-848C-4F36-835F-DEB81E3D4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2557-0F42-4F04-9F9F-9C7CCE2AD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3E83-E009-4662-883C-30AE25BC5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2C26-CEEC-47FC-9A93-9E6940E3F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B95C-E011-4042-A980-919B1E44A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9106C-602C-4357-8F01-E9117EA236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s-yamaga.jp/self/self.htm" TargetMode="External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hyperlink" Target="http://www.s-yamaga.jp/self/self.htm" TargetMode="External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03280" y="836280"/>
            <a:ext cx="634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地磁気のはな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84360" y="836640"/>
            <a:ext cx="7961040" cy="53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84360" y="836640"/>
            <a:ext cx="7961040" cy="53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4280" y="1268280"/>
            <a:ext cx="4448520" cy="45752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570560" y="1844640"/>
            <a:ext cx="4573440" cy="37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3047760" cy="33130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39640" y="4869000"/>
            <a:ext cx="2592360" cy="11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伊能忠敬の日本地図のゆが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から推定された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1800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年頃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地磁気偏角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419640" y="1484280"/>
            <a:ext cx="2676240" cy="31687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043520" y="4941720"/>
            <a:ext cx="1472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1970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年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の地磁気偏角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（国土地理院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780240" y="4941720"/>
            <a:ext cx="1472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2000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年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の地磁気偏角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（国土地理院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6156360" y="1341360"/>
            <a:ext cx="2689200" cy="31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835280" y="765000"/>
            <a:ext cx="5472000" cy="47167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250920" y="4581360"/>
            <a:ext cx="1579320" cy="18288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065040" y="5661000"/>
            <a:ext cx="304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西南日本における過去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200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年間の永年変化曲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500720" y="1197000"/>
            <a:ext cx="3943080" cy="45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118120" y="404640"/>
            <a:ext cx="4025880" cy="60804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95280" y="765000"/>
            <a:ext cx="5381640" cy="560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835280" y="512640"/>
            <a:ext cx="5349600" cy="63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95280" y="5949720"/>
            <a:ext cx="5616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日本列島の折れ曲がり（日本海の誕生）</a:t>
            </a:r>
            <a:br>
              <a:rPr sz="1800"/>
            </a:b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ea typeface="HG丸ｺﾞｼｯｸM-PRO"/>
                <a:hlinkClick r:id="rId1"/>
              </a:rPr>
              <a:t>http://www.s-yamaga.jp/self/self.htm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Arial"/>
                <a:ea typeface="HG丸ｺﾞｼｯｸM-PRO"/>
              </a:rPr>
              <a:t>よ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332000" y="765000"/>
            <a:ext cx="6769080" cy="50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26560" y="2565000"/>
            <a:ext cx="2953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2500</a:t>
            </a:r>
            <a:r>
              <a:rPr b="0" lang="zh-CN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万年前の日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187280" y="260280"/>
            <a:ext cx="2449800" cy="2352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788000" y="333360"/>
            <a:ext cx="2346120" cy="2040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1116000" y="3284640"/>
            <a:ext cx="2592360" cy="24019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4859280" y="3284640"/>
            <a:ext cx="2505240" cy="22748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348880" y="2565360"/>
            <a:ext cx="93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2200</a:t>
            </a:r>
            <a:r>
              <a:rPr b="0" lang="zh-CN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万年前、アジア大陸から分裂し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日本海ができ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26920" y="5734080"/>
            <a:ext cx="338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1500</a:t>
            </a:r>
            <a:r>
              <a:rPr b="0" lang="zh-CN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万年前，東北日本は反時計回り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西日本は時計回りに回転しながら南下する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126400" y="5734080"/>
            <a:ext cx="1954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1400</a:t>
            </a:r>
            <a:r>
              <a:rPr b="0" lang="zh-CN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万年前，ほとんど現在の日本列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の位置になる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508720" y="6453360"/>
            <a:ext cx="33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9999"/>
                </a:solidFill>
                <a:uFillTx/>
                <a:latin typeface="Arial"/>
                <a:ea typeface="HG丸ｺﾞｼｯｸM-PRO"/>
                <a:hlinkClick r:id="rId5"/>
              </a:rPr>
              <a:t>http://www.s-yamaga.jp/self/self.htm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よ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459640" y="772560"/>
            <a:ext cx="2383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8664480" cy="49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60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12000" y="5516280"/>
            <a:ext cx="2566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1975</a:t>
            </a:r>
            <a:r>
              <a:rPr b="0" lang="zh-CN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年の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世界の偏角・伏角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87280" y="284040"/>
            <a:ext cx="5151600" cy="657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84360" y="2349360"/>
            <a:ext cx="2520720" cy="3168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635280" y="981000"/>
            <a:ext cx="2820960" cy="3170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408720" y="1268280"/>
            <a:ext cx="2735280" cy="27036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971640" y="5661000"/>
            <a:ext cx="1892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ウィリアム・ギルバー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1544-1603</a:t>
            </a:r>
            <a:r>
              <a:rPr b="0" lang="zh-CN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81520" y="836640"/>
            <a:ext cx="2100960" cy="12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「地球は巨大な磁石である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赤道では旧の表面に平行，極に近づく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つれて傾きが大きくなる。小磁石の向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方向は南北極を結んだ線に平行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5733720"/>
            <a:ext cx="3178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棒磁石の周りの磁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3179520" cy="29545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564000" y="907920"/>
            <a:ext cx="5298840" cy="47149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292720" y="5805360"/>
            <a:ext cx="201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地球の周りの磁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332000" y="1557360"/>
            <a:ext cx="6567480" cy="45766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860440" y="1746360"/>
            <a:ext cx="208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地理的北極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自転軸と地表の交わるとこ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74720" y="1268280"/>
            <a:ext cx="324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地磁気北極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：地球の仮想時期双極子の軸が地表と交わるとこ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42480" y="2708280"/>
            <a:ext cx="200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北磁極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：伏角が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90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゜になるとこ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482960" y="511812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南磁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621400" y="60530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地磁気南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37880" y="55897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地理的南極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116000" y="549360"/>
            <a:ext cx="7216920" cy="60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4360" y="836640"/>
            <a:ext cx="7961040" cy="53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05:45:25Z</dcterms:created>
  <dc:creator>Junko Fujii</dc:creator>
  <dc:description/>
  <dc:language>en-US</dc:language>
  <cp:lastModifiedBy>Junko Fujii</cp:lastModifiedBy>
  <dcterms:modified xsi:type="dcterms:W3CDTF">2005-07-01T01:07:11Z</dcterms:modified>
  <cp:revision>16</cp:revision>
  <dc:subject/>
  <dc:title>スライド 1</dc:title>
</cp:coreProperties>
</file>